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A613-CCCA-4928-B7EB-E21164716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5A7D-DD97-47A8-83DE-3A58EEB0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7553-B285-4D7B-8E88-45071C926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B56D-B974-4505-8270-C56EDB673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B90E4-3229-45DB-870A-94F68CADD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1FE3D-E53D-4475-BA75-B4FEB52C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50573-C125-4EE9-93B4-FED2D5B3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F4C0A-4BBA-4251-AF14-B32CC404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612B2-3FF2-4357-AC21-89DB5819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D304C-DEFE-4785-81CB-88E9B57C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844B7-5EC7-435A-B83B-0974D1EF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CD78-6D9F-438E-B583-865C8C63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A4B5C0-0385-4C8C-A3E8-CEEC9023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CB2DA7-CEFD-4D66-A036-090CE69C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1232A-A667-41ED-93AF-80AB454F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613C68-F4A2-4CC3-A6EE-B5099F0F3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344CB1-BE8A-4325-B8F0-A004BD14E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453A-8DB4-4DA7-A200-4150959B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0B94-4CA6-4692-8BA6-3EFF61E3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A244-ED38-4CD6-99BF-C4311161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2E9C-3176-4CBB-AF8F-04495991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2DD5-9042-44E2-B4F7-0E64E53E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C29C-3E11-4169-AA2C-4AC6A1AB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0717-88AD-4AF7-9A9B-2F3EB649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4584-3D5B-46D9-8143-E81F9A7E18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9FBB-0878-491D-935E-160617804FD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имметрия вокруг на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715000" y="4648320"/>
            <a:ext cx="29718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ектная работа учащихся 2 класс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ководител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сецкая Л.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.Бавлы 2010-20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leaf-1-we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5280" y="17521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4 этап.Представление результатов исследования.</a:t>
            </a:r>
            <a:br>
              <a:rPr sz="18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152280" y="304920"/>
            <a:ext cx="876312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ли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Познакомить учащихся с симметрией,с видами симметр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Формировать умение работать источниками             литературы,навыки самостоятельной работ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ремя исследования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-3 четвер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зраст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 клас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6" descr="2"/>
          <p:cNvPicPr/>
          <p:nvPr/>
        </p:nvPicPr>
        <p:blipFill>
          <a:blip r:embed="rId1"/>
          <a:stretch/>
        </p:blipFill>
        <p:spPr>
          <a:xfrm>
            <a:off x="1371600" y="3321000"/>
            <a:ext cx="5486400" cy="33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0" descr="0_700b_d0014278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0" lang="ru-RU" sz="4400" spc="-1" strike="noStrike">
                <a:solidFill>
                  <a:srgbClr val="0000ff"/>
                </a:solidFill>
                <a:latin typeface="Tahoma"/>
              </a:rPr>
              <a:t>1 этап.Погружение в проект.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Tahoma"/>
              </a:rPr>
              <a:t>                                                   </a:t>
            </a: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Есть ли будущее без симметрии?                                                                                                                                          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0_16a45_b338c28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152280" y="0"/>
            <a:ext cx="868680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2 этап.Работа над проектом</a:t>
            </a: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Что такое симметрия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Где вокруг нас симметрия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Виды симметрия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8" descr="0_f895_5af8e448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babochk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2784521_large"/>
          <p:cNvPicPr/>
          <p:nvPr/>
        </p:nvPicPr>
        <p:blipFill>
          <a:blip r:embed="rId1"/>
          <a:stretch/>
        </p:blipFill>
        <p:spPr>
          <a:xfrm>
            <a:off x="0" y="3352680"/>
            <a:ext cx="3352680" cy="3505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risunok192"/>
          <p:cNvPicPr/>
          <p:nvPr/>
        </p:nvPicPr>
        <p:blipFill>
          <a:blip r:embed="rId2"/>
          <a:stretch/>
        </p:blipFill>
        <p:spPr>
          <a:xfrm>
            <a:off x="0" y="380880"/>
            <a:ext cx="3429000" cy="3353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1260623899_547"/>
          <p:cNvPicPr/>
          <p:nvPr/>
        </p:nvPicPr>
        <p:blipFill>
          <a:blip r:embed="rId3"/>
          <a:stretch/>
        </p:blipFill>
        <p:spPr>
          <a:xfrm>
            <a:off x="3124080" y="0"/>
            <a:ext cx="6019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1500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150086"/>
          <p:cNvPicPr/>
          <p:nvPr/>
        </p:nvPicPr>
        <p:blipFill>
          <a:blip r:embed="rId2"/>
          <a:stretch/>
        </p:blipFill>
        <p:spPr>
          <a:xfrm>
            <a:off x="0" y="-2286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1290882055_podsolnuh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228600" y="380880"/>
            <a:ext cx="891540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ff"/>
                </a:solidFill>
                <a:latin typeface="Tahoma"/>
              </a:rPr>
              <a:t>3 этап.Самостоятельные исследования учащихся в рамках учебного проект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Tahoma"/>
              </a:rPr>
              <a:t>Виды симметр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Русецкая Лена</cp:lastModifiedBy>
  <dcterms:modified xsi:type="dcterms:W3CDTF">2011-04-09T05:28:36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